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4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charts/chart12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57467688775321"/>
          <c:y val="0.020191923230707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77780246639"/>
          <c:y val="0.156537385045982"/>
          <c:w val="0.959893345183869"/>
          <c:h val="0.82327069172331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3</c:v>
                </c:pt>
                <c:pt idx="2">
                  <c:v>19</c:v>
                </c:pt>
                <c:pt idx="3">
                  <c:v>5</c:v>
                </c:pt>
                <c:pt idx="4">
                  <c:v>6</c:v>
                </c:pt>
                <c:pt idx="5">
                  <c:v>1</c:v>
                </c:pt>
                <c:pt idx="6">
                  <c:v>0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8.14402173913044</c:v>
                </c:pt>
                <c:pt idx="1">
                  <c:v>6.60326086956522</c:v>
                </c:pt>
                <c:pt idx="2">
                  <c:v>18.0489130434783</c:v>
                </c:pt>
                <c:pt idx="3">
                  <c:v>16.2880434782609</c:v>
                </c:pt>
                <c:pt idx="4">
                  <c:v>8.36413043478261</c:v>
                </c:pt>
                <c:pt idx="5">
                  <c:v>8.36413043478261</c:v>
                </c:pt>
                <c:pt idx="6">
                  <c:v>3.52173913043478</c:v>
                </c:pt>
                <c:pt idx="7">
                  <c:v>8.3641304347826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76086956521739</c:v>
                </c:pt>
                <c:pt idx="15">
                  <c:v>1.54076086956522</c:v>
                </c:pt>
              </c:numCache>
            </c:numRef>
          </c:val>
        </c:ser>
        <c:gapWidth val="100"/>
        <c:overlap val="0"/>
        <c:axId val="7550426"/>
        <c:axId val="42527447"/>
      </c:barChart>
      <c:catAx>
        <c:axId val="755042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27447"/>
        <c:crossesAt val="0"/>
        <c:auto val="1"/>
        <c:lblAlgn val="ctr"/>
        <c:lblOffset val="100"/>
        <c:noMultiLvlLbl val="0"/>
      </c:catAx>
      <c:valAx>
        <c:axId val="42527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042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6" spc="-1" strike="noStrike">
                <a:solidFill>
                  <a:srgbClr val="000000"/>
                </a:solidFill>
                <a:latin typeface="Arial"/>
              </a:defRPr>
            </a:pPr>
            <a:r>
              <a:rPr b="1" sz="1496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13737167237"/>
          <c:y val="0.020382326876819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66995822256"/>
          <c:w val="0.959957335229545"/>
          <c:h val="0.76997088239017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1</c:v>
                </c:pt>
                <c:pt idx="3">
                  <c:v>0</c:v>
                </c:pt>
                <c:pt idx="4">
                  <c:v>7</c:v>
                </c:pt>
                <c:pt idx="5">
                  <c:v>3</c:v>
                </c:pt>
                <c:pt idx="6">
                  <c:v>2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4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13333333333333</c:v>
                </c:pt>
                <c:pt idx="1">
                  <c:v>4.13333333333333</c:v>
                </c:pt>
                <c:pt idx="2">
                  <c:v>11.0222222222222</c:v>
                </c:pt>
                <c:pt idx="3">
                  <c:v>9.64444444444445</c:v>
                </c:pt>
                <c:pt idx="4">
                  <c:v>5.51111111111111</c:v>
                </c:pt>
                <c:pt idx="5">
                  <c:v>6.88888888888889</c:v>
                </c:pt>
                <c:pt idx="6">
                  <c:v>4.13333333333333</c:v>
                </c:pt>
                <c:pt idx="7">
                  <c:v>4.13333333333333</c:v>
                </c:pt>
                <c:pt idx="8">
                  <c:v>2.75555555555556</c:v>
                </c:pt>
                <c:pt idx="9">
                  <c:v>2.75555555555556</c:v>
                </c:pt>
                <c:pt idx="10">
                  <c:v>2.75555555555556</c:v>
                </c:pt>
                <c:pt idx="11">
                  <c:v>0</c:v>
                </c:pt>
                <c:pt idx="12">
                  <c:v>1.37777777777778</c:v>
                </c:pt>
                <c:pt idx="13">
                  <c:v>1.37777777777778</c:v>
                </c:pt>
                <c:pt idx="14">
                  <c:v>1.37777777777778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36223417"/>
        <c:axId val="24029522"/>
      </c:barChart>
      <c:catAx>
        <c:axId val="3622341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29522"/>
        <c:crossesAt val="0"/>
        <c:auto val="1"/>
        <c:lblAlgn val="ctr"/>
        <c:lblOffset val="100"/>
        <c:noMultiLvlLbl val="0"/>
      </c:catAx>
      <c:valAx>
        <c:axId val="240295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2341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58179636461"/>
          <c:y val="0.020382326876819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66995822256"/>
          <c:w val="0.960001777698769"/>
          <c:h val="0.76997088239017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2</c:v>
                </c:pt>
                <c:pt idx="5">
                  <c:v>5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5</c:v>
                </c:pt>
                <c:pt idx="11">
                  <c:v>0</c:v>
                </c:pt>
                <c:pt idx="12">
                  <c:v>6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8</c:v>
                </c:pt>
                <c:pt idx="1">
                  <c:v>4.8</c:v>
                </c:pt>
                <c:pt idx="2">
                  <c:v>12.8</c:v>
                </c:pt>
                <c:pt idx="3">
                  <c:v>11.2</c:v>
                </c:pt>
                <c:pt idx="4">
                  <c:v>6.4</c:v>
                </c:pt>
                <c:pt idx="5">
                  <c:v>8</c:v>
                </c:pt>
                <c:pt idx="6">
                  <c:v>4.8</c:v>
                </c:pt>
                <c:pt idx="7">
                  <c:v>4.8</c:v>
                </c:pt>
                <c:pt idx="8">
                  <c:v>3.2</c:v>
                </c:pt>
                <c:pt idx="9">
                  <c:v>3.2</c:v>
                </c:pt>
                <c:pt idx="10">
                  <c:v>3.2</c:v>
                </c:pt>
                <c:pt idx="11">
                  <c:v>0</c:v>
                </c:pt>
                <c:pt idx="12">
                  <c:v>1.6</c:v>
                </c:pt>
                <c:pt idx="13">
                  <c:v>1.6</c:v>
                </c:pt>
                <c:pt idx="14">
                  <c:v>1.6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5232626"/>
        <c:axId val="47047040"/>
      </c:barChart>
      <c:catAx>
        <c:axId val="7523262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47040"/>
        <c:crossesAt val="0"/>
        <c:auto val="1"/>
        <c:lblAlgn val="ctr"/>
        <c:lblOffset val="100"/>
        <c:noMultiLvlLbl val="0"/>
      </c:catAx>
      <c:valAx>
        <c:axId val="470470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3262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58179636461"/>
          <c:y val="0.0199973336888415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91111506155"/>
          <c:y val="0.209172110385282"/>
          <c:w val="0.959957335229545"/>
          <c:h val="0.77069724036795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8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4</c:v>
                </c:pt>
                <c:pt idx="6">
                  <c:v>0</c:v>
                </c:pt>
                <c:pt idx="7">
                  <c:v>1</c:v>
                </c:pt>
                <c:pt idx="8">
                  <c:v>1</c:v>
                </c:pt>
                <c:pt idx="9">
                  <c:v>0</c:v>
                </c:pt>
                <c:pt idx="10">
                  <c:v>2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53333333333333</c:v>
                </c:pt>
                <c:pt idx="1">
                  <c:v>3.53333333333333</c:v>
                </c:pt>
                <c:pt idx="2">
                  <c:v>9.42222222222222</c:v>
                </c:pt>
                <c:pt idx="3">
                  <c:v>8.24444444444444</c:v>
                </c:pt>
                <c:pt idx="4">
                  <c:v>4.71111111111111</c:v>
                </c:pt>
                <c:pt idx="5">
                  <c:v>5.88888888888889</c:v>
                </c:pt>
                <c:pt idx="6">
                  <c:v>3.53333333333333</c:v>
                </c:pt>
                <c:pt idx="7">
                  <c:v>3.53333333333333</c:v>
                </c:pt>
                <c:pt idx="8">
                  <c:v>2.35555555555556</c:v>
                </c:pt>
                <c:pt idx="9">
                  <c:v>2.35555555555556</c:v>
                </c:pt>
                <c:pt idx="10">
                  <c:v>2.35555555555556</c:v>
                </c:pt>
                <c:pt idx="11">
                  <c:v>0</c:v>
                </c:pt>
                <c:pt idx="12">
                  <c:v>1.17777777777778</c:v>
                </c:pt>
                <c:pt idx="13">
                  <c:v>1.17777777777778</c:v>
                </c:pt>
                <c:pt idx="14">
                  <c:v>1.17777777777778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3212992"/>
        <c:axId val="84951099"/>
      </c:barChart>
      <c:catAx>
        <c:axId val="5321299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51099"/>
        <c:crossesAt val="0"/>
        <c:auto val="1"/>
        <c:lblAlgn val="ctr"/>
        <c:lblOffset val="100"/>
        <c:noMultiLvlLbl val="0"/>
      </c:catAx>
      <c:valAx>
        <c:axId val="84951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1299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028741364661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859618013225"/>
          <c:y val="0.209116353458617"/>
          <c:w val="0.959991133769256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7</c:v>
                </c:pt>
                <c:pt idx="2">
                  <c:v>3</c:v>
                </c:pt>
                <c:pt idx="3">
                  <c:v>1</c:v>
                </c:pt>
                <c:pt idx="4">
                  <c:v>4</c:v>
                </c:pt>
                <c:pt idx="5">
                  <c:v>0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43478260869565</c:v>
                </c:pt>
                <c:pt idx="1">
                  <c:v>5.21739130434783</c:v>
                </c:pt>
                <c:pt idx="2">
                  <c:v>14.2608695652174</c:v>
                </c:pt>
                <c:pt idx="3">
                  <c:v>12.8695652173913</c:v>
                </c:pt>
                <c:pt idx="4">
                  <c:v>6.60869565217391</c:v>
                </c:pt>
                <c:pt idx="5">
                  <c:v>6.60869565217391</c:v>
                </c:pt>
                <c:pt idx="6">
                  <c:v>2.78260869565217</c:v>
                </c:pt>
                <c:pt idx="7">
                  <c:v>6.6086956521739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9130434782609</c:v>
                </c:pt>
                <c:pt idx="15">
                  <c:v>1.21739130434783</c:v>
                </c:pt>
              </c:numCache>
            </c:numRef>
          </c:val>
        </c:ser>
        <c:gapWidth val="100"/>
        <c:overlap val="0"/>
        <c:axId val="65587757"/>
        <c:axId val="78452103"/>
      </c:barChart>
      <c:catAx>
        <c:axId val="6558775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52103"/>
        <c:crossesAt val="0"/>
        <c:auto val="1"/>
        <c:lblAlgn val="ctr"/>
        <c:lblOffset val="100"/>
        <c:noMultiLvlLbl val="0"/>
      </c:catAx>
      <c:valAx>
        <c:axId val="78452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8775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104377352919"/>
          <c:y val="0.020583533173461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675204842401"/>
          <c:y val="0.209232613908873"/>
          <c:w val="0.959954233409611"/>
          <c:h val="0.77018385291766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1</c:v>
                </c:pt>
                <c:pt idx="2">
                  <c:v>4</c:v>
                </c:pt>
                <c:pt idx="3">
                  <c:v>4</c:v>
                </c:pt>
                <c:pt idx="4">
                  <c:v>3</c:v>
                </c:pt>
                <c:pt idx="5">
                  <c:v>8</c:v>
                </c:pt>
                <c:pt idx="6">
                  <c:v>3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13315217391304</c:v>
                </c:pt>
                <c:pt idx="1">
                  <c:v>4.97282608695652</c:v>
                </c:pt>
                <c:pt idx="2">
                  <c:v>13.5923913043478</c:v>
                </c:pt>
                <c:pt idx="3">
                  <c:v>12.2663043478261</c:v>
                </c:pt>
                <c:pt idx="4">
                  <c:v>6.29891304347826</c:v>
                </c:pt>
                <c:pt idx="5">
                  <c:v>6.29891304347826</c:v>
                </c:pt>
                <c:pt idx="6">
                  <c:v>2.65217391304348</c:v>
                </c:pt>
                <c:pt idx="7">
                  <c:v>6.2989130434782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2608695652174</c:v>
                </c:pt>
                <c:pt idx="15">
                  <c:v>1.16032608695652</c:v>
                </c:pt>
              </c:numCache>
            </c:numRef>
          </c:val>
        </c:ser>
        <c:gapWidth val="100"/>
        <c:overlap val="0"/>
        <c:axId val="19760647"/>
        <c:axId val="29522538"/>
      </c:barChart>
      <c:catAx>
        <c:axId val="1976064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22538"/>
        <c:crossesAt val="0"/>
        <c:auto val="1"/>
        <c:lblAlgn val="ctr"/>
        <c:lblOffset val="100"/>
        <c:noMultiLvlLbl val="0"/>
      </c:catAx>
      <c:valAx>
        <c:axId val="29522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6064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8127213695396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70484061393"/>
          <c:y val="0.209116353458617"/>
          <c:w val="0.959969008264463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7</c:v>
                </c:pt>
                <c:pt idx="2">
                  <c:v>9</c:v>
                </c:pt>
                <c:pt idx="3">
                  <c:v>3</c:v>
                </c:pt>
                <c:pt idx="4">
                  <c:v>5</c:v>
                </c:pt>
                <c:pt idx="5">
                  <c:v>23</c:v>
                </c:pt>
                <c:pt idx="6">
                  <c:v>0</c:v>
                </c:pt>
                <c:pt idx="7">
                  <c:v>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33423913043478</c:v>
                </c:pt>
                <c:pt idx="1">
                  <c:v>5.13586956521739</c:v>
                </c:pt>
                <c:pt idx="2">
                  <c:v>14.0380434782609</c:v>
                </c:pt>
                <c:pt idx="3">
                  <c:v>12.6684782608696</c:v>
                </c:pt>
                <c:pt idx="4">
                  <c:v>6.5054347826087</c:v>
                </c:pt>
                <c:pt idx="5">
                  <c:v>6.5054347826087</c:v>
                </c:pt>
                <c:pt idx="6">
                  <c:v>2.73913043478261</c:v>
                </c:pt>
                <c:pt idx="7">
                  <c:v>6.505434782608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695652173913</c:v>
                </c:pt>
                <c:pt idx="15">
                  <c:v>1.19836956521739</c:v>
                </c:pt>
              </c:numCache>
            </c:numRef>
          </c:val>
        </c:ser>
        <c:gapWidth val="100"/>
        <c:overlap val="0"/>
        <c:axId val="16976877"/>
        <c:axId val="8430868"/>
      </c:barChart>
      <c:catAx>
        <c:axId val="1697687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0868"/>
        <c:crossesAt val="0"/>
        <c:auto val="1"/>
        <c:lblAlgn val="ctr"/>
        <c:lblOffset val="100"/>
        <c:noMultiLvlLbl val="0"/>
      </c:catAx>
      <c:valAx>
        <c:axId val="8430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7687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VEPERTINO</a:t>
            </a:r>
          </a:p>
        </c:rich>
      </c:tx>
      <c:layout>
        <c:manualLayout>
          <c:xMode val="edge"/>
          <c:yMode val="edge"/>
          <c:x val="0.453084499740798"/>
          <c:y val="0.020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14989261646"/>
          <c:y val="0.1564"/>
          <c:w val="0.95989780048878"/>
          <c:h val="0.823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1</c:v>
                </c:pt>
                <c:pt idx="2">
                  <c:v>13</c:v>
                </c:pt>
                <c:pt idx="3">
                  <c:v>6</c:v>
                </c:pt>
                <c:pt idx="4">
                  <c:v>1</c:v>
                </c:pt>
                <c:pt idx="5">
                  <c:v>3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7</c:v>
                </c:pt>
                <c:pt idx="1">
                  <c:v>3.82962962962963</c:v>
                </c:pt>
                <c:pt idx="2">
                  <c:v>10.4444444444444</c:v>
                </c:pt>
                <c:pt idx="3">
                  <c:v>9.4</c:v>
                </c:pt>
                <c:pt idx="4">
                  <c:v>4.87407407407407</c:v>
                </c:pt>
                <c:pt idx="5">
                  <c:v>4.87407407407407</c:v>
                </c:pt>
                <c:pt idx="6">
                  <c:v>2.08888888888889</c:v>
                </c:pt>
                <c:pt idx="7">
                  <c:v>4.8740740740740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04444444444444</c:v>
                </c:pt>
                <c:pt idx="15">
                  <c:v>0.87037037037037</c:v>
                </c:pt>
              </c:numCache>
            </c:numRef>
          </c:val>
        </c:ser>
        <c:gapWidth val="100"/>
        <c:overlap val="0"/>
        <c:axId val="98714368"/>
        <c:axId val="74167597"/>
      </c:barChart>
      <c:catAx>
        <c:axId val="9871436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67597"/>
        <c:crossesAt val="0"/>
        <c:auto val="1"/>
        <c:lblAlgn val="ctr"/>
        <c:lblOffset val="100"/>
        <c:noMultiLvlLbl val="0"/>
      </c:catAx>
      <c:valAx>
        <c:axId val="741675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1436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VEPERTINO</a:t>
            </a:r>
          </a:p>
        </c:rich>
      </c:tx>
      <c:layout>
        <c:manualLayout>
          <c:xMode val="edge"/>
          <c:yMode val="edge"/>
          <c:x val="0.432228748753186"/>
          <c:y val="0.0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859618013225"/>
          <c:y val="0.2096"/>
          <c:w val="0.959991133769256"/>
          <c:h val="0.7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0</c:v>
                </c:pt>
                <c:pt idx="2">
                  <c:v>1</c:v>
                </c:pt>
                <c:pt idx="3">
                  <c:v>1</c:v>
                </c:pt>
                <c:pt idx="4">
                  <c:v>2</c:v>
                </c:pt>
                <c:pt idx="5">
                  <c:v>18</c:v>
                </c:pt>
                <c:pt idx="6">
                  <c:v>6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7</c:v>
                </c:pt>
                <c:pt idx="1">
                  <c:v>4.64444444444444</c:v>
                </c:pt>
                <c:pt idx="2">
                  <c:v>12.6666666666667</c:v>
                </c:pt>
                <c:pt idx="3">
                  <c:v>11.4</c:v>
                </c:pt>
                <c:pt idx="4">
                  <c:v>5.91111111111111</c:v>
                </c:pt>
                <c:pt idx="5">
                  <c:v>5.91111111111111</c:v>
                </c:pt>
                <c:pt idx="6">
                  <c:v>2.53333333333333</c:v>
                </c:pt>
                <c:pt idx="7">
                  <c:v>5.9111111111111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26666666666667</c:v>
                </c:pt>
                <c:pt idx="15">
                  <c:v>1.05555555555556</c:v>
                </c:pt>
              </c:numCache>
            </c:numRef>
          </c:val>
        </c:ser>
        <c:gapWidth val="100"/>
        <c:overlap val="0"/>
        <c:axId val="55970642"/>
        <c:axId val="51644990"/>
      </c:barChart>
      <c:catAx>
        <c:axId val="5597064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44990"/>
        <c:crossesAt val="0"/>
        <c:auto val="1"/>
        <c:lblAlgn val="ctr"/>
        <c:lblOffset val="100"/>
        <c:noMultiLvlLbl val="0"/>
      </c:catAx>
      <c:valAx>
        <c:axId val="51644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7064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VEPERTINO</a:t>
            </a:r>
          </a:p>
        </c:rich>
      </c:tx>
      <c:layout>
        <c:manualLayout>
          <c:xMode val="edge"/>
          <c:yMode val="edge"/>
          <c:x val="0.432209959026983"/>
          <c:y val="0.020387767339596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959063895759"/>
          <c:y val="0.20907455526684"/>
          <c:w val="0.960023624081798"/>
          <c:h val="0.76993803717769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5</c:v>
                </c:pt>
                <c:pt idx="2">
                  <c:v>5</c:v>
                </c:pt>
                <c:pt idx="3">
                  <c:v>1</c:v>
                </c:pt>
                <c:pt idx="4">
                  <c:v>3</c:v>
                </c:pt>
                <c:pt idx="5">
                  <c:v>9</c:v>
                </c:pt>
                <c:pt idx="6">
                  <c:v>0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2</c:v>
                </c:pt>
                <c:pt idx="1">
                  <c:v>3.42222222222222</c:v>
                </c:pt>
                <c:pt idx="2">
                  <c:v>9.33333333333333</c:v>
                </c:pt>
                <c:pt idx="3">
                  <c:v>8.4</c:v>
                </c:pt>
                <c:pt idx="4">
                  <c:v>4.35555555555556</c:v>
                </c:pt>
                <c:pt idx="5">
                  <c:v>4.35555555555556</c:v>
                </c:pt>
                <c:pt idx="6">
                  <c:v>1.86666666666667</c:v>
                </c:pt>
                <c:pt idx="7">
                  <c:v>4.3555555555555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933333333333333</c:v>
                </c:pt>
                <c:pt idx="15">
                  <c:v>0.777777777777778</c:v>
                </c:pt>
              </c:numCache>
            </c:numRef>
          </c:val>
        </c:ser>
        <c:gapWidth val="100"/>
        <c:overlap val="0"/>
        <c:axId val="10035212"/>
        <c:axId val="52394389"/>
      </c:barChart>
      <c:catAx>
        <c:axId val="1003521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94389"/>
        <c:crossesAt val="0"/>
        <c:auto val="1"/>
        <c:lblAlgn val="ctr"/>
        <c:lblOffset val="100"/>
        <c:noMultiLvlLbl val="0"/>
      </c:catAx>
      <c:valAx>
        <c:axId val="52394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3521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79" spc="-1" strike="noStrike">
                <a:solidFill>
                  <a:srgbClr val="000000"/>
                </a:solidFill>
                <a:latin typeface="Arial"/>
              </a:defRPr>
            </a:pPr>
            <a:r>
              <a:rPr b="1" sz="1479" spc="-1" strike="noStrike">
                <a:solidFill>
                  <a:srgbClr val="000000"/>
                </a:solidFill>
                <a:latin typeface="Arial"/>
              </a:rPr>
              <a:t>VEPERTINO</a:t>
            </a:r>
          </a:p>
        </c:rich>
      </c:tx>
      <c:layout>
        <c:manualLayout>
          <c:xMode val="edge"/>
          <c:yMode val="edge"/>
          <c:x val="0.432181328545781"/>
          <c:y val="0.020137856467090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730700179533"/>
          <c:y val="0.209487768617381"/>
          <c:w val="0.959964093357271"/>
          <c:h val="0.77023922151642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3</c:v>
                </c:pt>
                <c:pt idx="2">
                  <c:v>3</c:v>
                </c:pt>
                <c:pt idx="3">
                  <c:v>1</c:v>
                </c:pt>
                <c:pt idx="4">
                  <c:v>0</c:v>
                </c:pt>
                <c:pt idx="5">
                  <c:v>23</c:v>
                </c:pt>
                <c:pt idx="6">
                  <c:v>1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6</c:v>
                </c:pt>
                <c:pt idx="1">
                  <c:v>3.74814814814815</c:v>
                </c:pt>
                <c:pt idx="2">
                  <c:v>10.2222222222222</c:v>
                </c:pt>
                <c:pt idx="3">
                  <c:v>9.2</c:v>
                </c:pt>
                <c:pt idx="4">
                  <c:v>4.77037037037037</c:v>
                </c:pt>
                <c:pt idx="5">
                  <c:v>4.77037037037037</c:v>
                </c:pt>
                <c:pt idx="6">
                  <c:v>2.04444444444444</c:v>
                </c:pt>
                <c:pt idx="7">
                  <c:v>4.77037037037037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02222222222222</c:v>
                </c:pt>
                <c:pt idx="15">
                  <c:v>0.851851851851852</c:v>
                </c:pt>
              </c:numCache>
            </c:numRef>
          </c:val>
        </c:ser>
        <c:gapWidth val="100"/>
        <c:overlap val="0"/>
        <c:axId val="41751321"/>
        <c:axId val="21018396"/>
      </c:barChart>
      <c:catAx>
        <c:axId val="4175132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18396"/>
        <c:crossesAt val="0"/>
        <c:auto val="1"/>
        <c:lblAlgn val="ctr"/>
        <c:lblOffset val="100"/>
        <c:noMultiLvlLbl val="0"/>
      </c:catAx>
      <c:valAx>
        <c:axId val="21018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5132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3" spc="-1" strike="noStrike">
                <a:solidFill>
                  <a:srgbClr val="000000"/>
                </a:solidFill>
                <a:latin typeface="Arial"/>
              </a:defRPr>
            </a:pPr>
            <a:r>
              <a:rPr b="0" sz="1083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5877960979512"/>
          <c:y val="0.019872515935508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56230471191101"/>
          <c:w val="0.959957335229545"/>
          <c:h val="0.82302212223472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3</c:v>
                </c:pt>
                <c:pt idx="3">
                  <c:v>0</c:v>
                </c:pt>
                <c:pt idx="4">
                  <c:v>7</c:v>
                </c:pt>
                <c:pt idx="5">
                  <c:v>4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4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33333333333333</c:v>
                </c:pt>
                <c:pt idx="1">
                  <c:v>3.33333333333333</c:v>
                </c:pt>
                <c:pt idx="2">
                  <c:v>8.88888888888889</c:v>
                </c:pt>
                <c:pt idx="3">
                  <c:v>7.77777777777778</c:v>
                </c:pt>
                <c:pt idx="4">
                  <c:v>5.55555555555556</c:v>
                </c:pt>
                <c:pt idx="5">
                  <c:v>5.55555555555556</c:v>
                </c:pt>
                <c:pt idx="6">
                  <c:v>4.44444444444444</c:v>
                </c:pt>
                <c:pt idx="7">
                  <c:v>3.33333333333333</c:v>
                </c:pt>
                <c:pt idx="8">
                  <c:v>2.22222222222222</c:v>
                </c:pt>
                <c:pt idx="9">
                  <c:v>2.22222222222222</c:v>
                </c:pt>
                <c:pt idx="10">
                  <c:v>2.22222222222222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11111111111111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8996231"/>
        <c:axId val="30333838"/>
      </c:barChart>
      <c:catAx>
        <c:axId val="7899623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33838"/>
        <c:crossesAt val="0"/>
        <c:auto val="1"/>
        <c:lblAlgn val="ctr"/>
        <c:lblOffset val="100"/>
        <c:noMultiLvlLbl val="0"/>
      </c:catAx>
      <c:valAx>
        <c:axId val="30333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9623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92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0" y="8685360"/>
            <a:ext cx="29592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11CBF-48C0-42CE-A2B9-1BEBF77E71B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9CAA4-86EB-43BF-AF35-E8DD8D2F158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97DC8-B579-474F-A12D-D796CB55F15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C8E62-234B-405B-B13C-695F1B7AF14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DFE95-E53D-4612-890E-039CED67B3E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FB957-5EFF-40BF-A297-9F1CD385DA3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11B63-F0BE-4327-942D-1B6065955C1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15C55-EF6A-4193-8F8D-29FB33040CB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512C1-6530-4273-A9A1-401B148F025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41990-B661-43FF-853B-534EE9A9D4F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F1FE6-04E6-4543-A7F1-48C53658254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7452D-8C75-4F95-BF9A-A03A247DA70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AFCE5-C782-4F2E-88C4-318308CE3B3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B9D6C-CB95-469F-9385-3719B57290B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F11EB-5A6A-4209-A1C3-4C0412815BB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44A53-1916-4078-BA86-4806F626DD4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3B062-8486-49A7-BAC0-535979C8089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CDD-FB61-44C0-A4C8-BD8DE207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667-0C2F-4AEE-BAEB-37DE4749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B3F-5EE4-443A-8993-CA568F16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1D2-F10F-4CE8-B960-5031E93B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BFC-464F-47CA-9B19-8A51C2BE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6C1-F778-48A5-95B1-70B69395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F5B-D7FB-484D-BFAF-26042269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BA4-7612-4620-861C-CFC8241B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7A1-BF45-4CB9-B5E6-30177936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0A7-A76B-42CF-A3F5-996C5090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48B5-BF92-4FEB-B301-4F03FF5A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A09-A1F1-4E92-B3A1-6D125D2E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14A9F7-CDC7-43C3-BF53-C77FD750291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1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1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Britannic Bold"/>
              </a:rPr>
              <a:t>VISITA SEMESTR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547640" y="3933720"/>
            <a:ext cx="66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DejaVu Sans"/>
              </a:rPr>
              <a:t>ESCOLA ESTADU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98" name="Object 4"/>
          <p:cNvGraphicFramePr/>
          <p:nvPr/>
        </p:nvGraphicFramePr>
        <p:xfrm>
          <a:off x="287964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7964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1844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619200" y="1657440"/>
          <a:ext cx="8020080" cy="2663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03" name="Object 4"/>
          <p:cNvGraphicFramePr/>
          <p:nvPr/>
        </p:nvGraphicFramePr>
        <p:xfrm>
          <a:off x="2436840" y="4500720"/>
          <a:ext cx="476424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6840" y="450072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TU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ÇO – ABRIL – M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fesso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1729080" cy="158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093080" y="4653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11" name="Object 4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539640" y="1657440"/>
          <a:ext cx="8099640" cy="2843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2849400" y="46800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940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539640" y="1657440"/>
          <a:ext cx="8099640" cy="2843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21" name="Object 4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1844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539640" y="161928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26" name="Object 4"/>
          <p:cNvGraphicFramePr/>
          <p:nvPr/>
        </p:nvGraphicFramePr>
        <p:xfrm>
          <a:off x="2436840" y="4500720"/>
          <a:ext cx="476424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6840" y="450072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75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UT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RÇO – ABRIL– MA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ess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1320" y="5300640"/>
            <a:ext cx="272268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6877080" y="0"/>
            <a:ext cx="20876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3"/>
          <p:cNvGraphicFramePr/>
          <p:nvPr/>
        </p:nvGraphicFramePr>
        <p:xfrm>
          <a:off x="457200" y="1657440"/>
          <a:ext cx="8182080" cy="2843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4" name="Object 4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3"/>
          <p:cNvGraphicFramePr/>
          <p:nvPr/>
        </p:nvGraphicFramePr>
        <p:xfrm>
          <a:off x="446040" y="1657440"/>
          <a:ext cx="8194680" cy="2843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9" name="Object 4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74" name="Object 4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1844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539640" y="161928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79" name="Object 4"/>
          <p:cNvGraphicFramePr/>
          <p:nvPr/>
        </p:nvGraphicFramePr>
        <p:xfrm>
          <a:off x="2076480" y="4500720"/>
          <a:ext cx="47638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6480" y="4500720"/>
                    <a:ext cx="47638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159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VESPERT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ÇO- ABRIL – M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ROFESSO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47800" cy="1152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6012000" y="5373720"/>
            <a:ext cx="26636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657440"/>
          <a:ext cx="8099640" cy="2843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88" name="Object 4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93" name="Object 4"/>
          <p:cNvGraphicFramePr/>
          <p:nvPr/>
        </p:nvGraphicFramePr>
        <p:xfrm>
          <a:off x="287964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7964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DMS</dc:creator>
  <dc:description/>
  <dc:language>en-US</dc:language>
  <cp:lastModifiedBy>Luciana Catarino</cp:lastModifiedBy>
  <dcterms:modified xsi:type="dcterms:W3CDTF">2009-07-10T23:17:28Z</dcterms:modified>
  <cp:revision>1</cp:revision>
  <dc:subject/>
  <dc:title>As tecnologias mais utilizadas na escola são:</dc:title>
</cp:coreProperties>
</file>